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5.gif" ContentType="image/gif"/>
  <Override PartName="/ppt/media/image23.png" ContentType="image/png"/>
  <Override PartName="/ppt/media/image22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10.png" ContentType="image/png"/>
  <Override PartName="/ppt/media/image30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comments/comment24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Owner" initials="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<Relationship Id="rId40" Type="http://schemas.openxmlformats.org/officeDocument/2006/relationships/commentAuthors" Target="commentAuthors.xml"/>
</Relationships>
</file>

<file path=ppt/comments/comment24.xml><?xml version="1.0" encoding="utf-8"?>
<p:cmLst xmlns:p="http://schemas.openxmlformats.org/presentationml/2006/main">
  <p:cm authorId="0" dt="2012-05-02T19:00:18.606000000" idx="1">
    <p:pos x="5157" y="1214"/>
    <p:text>p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6ACC-6727-4D82-BDF4-4FDB001C4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8710-0404-4B79-84E5-3D59F0540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3AA0-46B5-44F2-874B-2F0AF09A1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4686-9F4D-4F86-8D60-D7F9FFF1F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E7A1-1472-4C64-ADE5-765483BC1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786D0-F2A5-4F8A-B5CD-064A0B147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51D0-59A4-481F-B2E7-7AE3FE314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9040-B7A3-483C-9389-2BDAFEE43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64AD7-2924-4645-A691-B303B81D7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C6F4D-1406-4110-8ADF-17C02E946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517F-7866-47A4-B760-E251EA9B4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943D-F405-434C-88D8-6B86215D2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73F2E-E8A6-40BE-B99C-215E23265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D1208-EB4C-4A25-B6B7-999805FB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B983-904C-403B-BAAC-C5DDDB4AD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266D-2506-4AE8-936E-B418F963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BEF57-D669-4334-9E4E-16C8DCEEA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CF36D8-BE86-4962-8429-0D0BB6905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A36CC-5DE1-450F-AE1F-4ADB4D4A3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E8F77-8B18-4A5A-807C-4B56B711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5E8E1-1306-44EE-9F50-7254BE886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13D36-21D2-44EB-A186-20F4F05B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6AC6-2C08-429A-957C-F73CD9C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FD280D-BECB-4218-9C29-FF9E50862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08142-7400-47A6-9F6D-2B5A4BEF2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6F59E6-DAC1-46CC-A85F-0947B714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23CC8-6FBD-4F13-BE10-C16F01D7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A99D7-C466-427B-98E4-8BECD747F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E2611-3129-4D5F-B735-EC93D9A3E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ED69F-6198-49B6-AF4C-06D995CD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56B59-330F-42CE-A7D9-995CCCD95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7B664-796C-4FDA-BE12-C08F1EA0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1A4D4E-4224-4E73-B38B-2F794C7A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68C3-9B39-4F72-B010-1C935BE0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5159A3-341D-4F54-A526-048B6BE97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69952B-70DA-423C-9ADA-53716526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09BFC2-8C83-4010-88C0-BB87A0455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6D8F0-254F-46D7-83A8-82A5A01AD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6D506-4E34-49D5-8614-E5B1062F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BBDB6-D045-4DF2-ACA9-C3E7E455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9746A1-364F-48DC-8430-2A897B3B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075C3-C17A-4EA8-9CF9-3DB698924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22046-88CA-4348-AAD8-5DE415AFF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9EB5E-6DAB-418C-9501-3BAEDDD9C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A60E-E018-431F-AB2F-F56553CE3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D60899-C053-4995-8E61-1D73B712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7E87E-D187-42B7-9529-92817F8A2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5D8B70-F511-408C-A39F-9F7244F40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3C010B-C58E-44C0-BD06-04EAC72B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D2BBB-C1CB-4AC2-8A60-759DB20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5F7A0E-8A63-48D2-A85E-2C9DDB8B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DED173-35F6-45E5-8F7E-52AEECF0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1A6AC-E4F2-4E74-9B39-D037DF29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C5C4-DC14-4E91-8E42-5BA07A6A0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52DF86-EEFA-48B1-B871-943136E9E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5B23-A4CC-4FC4-9A1D-F50BB964A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DCAD8-55F2-4551-B7A7-49665FCC1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F8920-E9D1-44AD-B305-AF01CB8A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1F33F-ACF1-4722-AEBD-0A299D639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FA5B9-A583-4A06-BF96-77F497FE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C9004-D713-4443-BC15-55DC3E28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EB7C14-CAC1-412D-A176-7DFCD2BE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5CD63-F1CF-4C47-82B3-3972BDA65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C0119B-A486-4ADE-95A5-25FBD023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06468-6123-4823-A1DA-FD6A30FAA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821E16-10F5-4354-B80E-76FA6BF50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E99F-9428-4041-83AC-1C0810E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A3E4AD-B86C-4AC6-8A67-E23EBC4AE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12E11-9047-4190-B4C4-6C9CDF8D4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C8F94B-8F28-4568-84C1-1E1F3C164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DEF23-4D5F-45D1-A5D2-9DC85531C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3DAAB-9F5A-4131-8C4F-1A844971D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4539B7-ADBF-4070-9A62-4A378AA9D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628611-37D2-490A-83A6-6FE6F953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47A889-D6CE-4340-83EC-186348587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3416B8-DF48-4CEE-A611-73F105577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120DD-A83C-4E09-8C98-8109E243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F499-2CD8-4B5C-B543-F3C4553C7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0DFB7-1AC2-4C2E-9477-3B262EB91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5081B-DDEC-4B72-A3FF-646E7C07E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D52AD7-D42B-4566-A7BD-7C197892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B7C07B-0846-4CA9-9842-93A17AEF1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6B7355-B2DD-4B3A-A221-AB5924EB7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85AD-451E-4F99-89D7-E588E1274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52930-9DBA-46DD-B09B-846DB372D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6CFB-E73A-4D7E-BDDD-D44B68E70EA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7FF9B-77A4-4015-994F-198012009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fff39d">
                  <a:alpha val="1176"/>
                </a:srgbClr>
              </a:gs>
              <a:gs pos="100000">
                <a:srgbClr val="fff39d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4500"/>
              </a:gs>
              <a:gs pos="100000">
                <a:srgbClr val="ff9f69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1c4ca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9bdc4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2B1B-1697-47FC-9059-84D6B5EFAA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52D2A-2AE0-4265-B7E8-C06EE6B9A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f57"/>
            </a:gs>
            <a:gs pos="100000">
              <a:srgbClr val="7283a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230A4-9AB3-47F3-8106-06B4CD521D37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65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65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e8637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e863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eaf9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8812-8467-4C58-8C7A-9B679435DC8F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<Relationship Id="rId4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2.xml"/><Relationship Id="rId8" Type="http://schemas.openxmlformats.org/officeDocument/2006/relationships/slide" Target="slide13.xml"/><Relationship Id="rId9" Type="http://schemas.openxmlformats.org/officeDocument/2006/relationships/slide" Target="slide14.xml"/><Relationship Id="rId10" Type="http://schemas.openxmlformats.org/officeDocument/2006/relationships/slide" Target="slide15.xml"/><Relationship Id="rId11" Type="http://schemas.openxmlformats.org/officeDocument/2006/relationships/slide" Target="slide16.xml"/><Relationship Id="rId12" Type="http://schemas.openxmlformats.org/officeDocument/2006/relationships/slide" Target="slide17.xml"/><Relationship Id="rId13" Type="http://schemas.openxmlformats.org/officeDocument/2006/relationships/slide" Target="slide18.xml"/><Relationship Id="rId14" Type="http://schemas.openxmlformats.org/officeDocument/2006/relationships/slide" Target="slide19.xml"/><Relationship Id="rId15" Type="http://schemas.openxmlformats.org/officeDocument/2006/relationships/slide" Target="slide20.xml"/><Relationship Id="rId16" Type="http://schemas.openxmlformats.org/officeDocument/2006/relationships/slide" Target="slide21.xml"/><Relationship Id="rId17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Title 1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058240" cy="1468440"/>
          </a:xfrm>
          <a:prstGeom prst="rect">
            <a:avLst/>
          </a:prstGeom>
          <a:ln w="0">
            <a:noFill/>
          </a:ln>
        </p:spPr>
      </p:pic>
      <p:pic>
        <p:nvPicPr>
          <p:cNvPr id="302" name="Subtitle 2" descr=""/>
          <p:cNvPicPr/>
          <p:nvPr/>
        </p:nvPicPr>
        <p:blipFill>
          <a:blip r:embed="rId2"/>
          <a:stretch/>
        </p:blipFill>
        <p:spPr>
          <a:xfrm>
            <a:off x="542880" y="2249640"/>
            <a:ext cx="805824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Yo trepaba a los árboles cuando era niño/a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454960" cy="13953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Nos portábamos mal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6" dur="2000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 SENTÍ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VEÍAIS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i madrastra siempre tenía cuidado.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3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46160"/>
            <a:ext cx="8229600" cy="223668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í, puedes usar la calculadora mía. 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5" dur="20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UN AMIGO TUYO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40184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457200" y="2666880"/>
            <a:ext cx="8229600" cy="37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Century Gothic"/>
              </a:rPr>
              <a:t>Yo voy a visitar a un cuñado suyo. 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52280" y="268200"/>
            <a:ext cx="8686800" cy="17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9" name=""/>
          <p:cNvGraphicFramePr/>
          <p:nvPr/>
        </p:nvGraphicFramePr>
        <p:xfrm>
          <a:off x="723960" y="2286000"/>
          <a:ext cx="7315200" cy="3017880"/>
        </p:xfrm>
        <a:graphic>
          <a:graphicData uri="http://schemas.openxmlformats.org/drawingml/2006/table">
            <a:tbl>
              <a:tblPr/>
              <a:tblGrid>
                <a:gridCol w="3657600"/>
                <a:gridCol w="3657600"/>
              </a:tblGrid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er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éramo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is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06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60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eran</a:t>
                      </a:r>
                      <a:endParaRPr b="0" lang="en-US" sz="6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ede8"/>
                    </a:solidFill>
                  </a:tcPr>
                </a:tc>
              </a:tr>
            </a:tbl>
          </a:graphicData>
        </a:graphic>
      </p:graphicFrame>
      <p:pic>
        <p:nvPicPr>
          <p:cNvPr id="35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686800" cy="20178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una bisabuela vuestr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9903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Materiales: Una hoja de paper / un lápiz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Hay </a:t>
            </a:r>
            <a:r>
              <a:rPr b="0" lang="en-US" sz="2600" spc="-1" strike="noStrike">
                <a:solidFill>
                  <a:srgbClr val="7598d9"/>
                </a:solidFill>
                <a:latin typeface="Century Gothic"/>
              </a:rPr>
              <a:t>dos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equipo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chooses a number for the opposite team in order to reveal the question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If you are o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and know the answer, or want to “BLUFF,” write down your answer on your paper(or pretend to) and stand up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The first person o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 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will then select a student, from those who are standing, to answer.  If he/she is correct, then </a:t>
            </a:r>
            <a:r>
              <a:rPr b="0" lang="en-US" sz="2600" spc="-1" strike="noStrike">
                <a:solidFill>
                  <a:srgbClr val="ffe636"/>
                </a:solidFill>
                <a:latin typeface="Century Gothic"/>
              </a:rPr>
              <a:t>team two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as many points as people standing. If incorrect, then </a:t>
            </a:r>
            <a:r>
              <a:rPr b="0" lang="en-US" sz="2600" spc="-1" strike="noStrike">
                <a:solidFill>
                  <a:srgbClr val="fe8637"/>
                </a:solidFill>
                <a:latin typeface="Century Gothic"/>
              </a:rPr>
              <a:t>team one</a:t>
            </a: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 receives the points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e8637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entury Gothic"/>
              </a:rPr>
              <a:t>REPEAT the same process but with the other team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Title 1" descr=""/>
          <p:cNvPicPr/>
          <p:nvPr/>
        </p:nvPicPr>
        <p:blipFill>
          <a:blip r:embed="rId1"/>
          <a:stretch/>
        </p:blipFill>
        <p:spPr>
          <a:xfrm>
            <a:off x="457200" y="225360"/>
            <a:ext cx="8229600" cy="19382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04920" y="2666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PREOCUPARSE PO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8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5744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es-ES_tradnl" sz="3200" spc="-1" strike="noStrike">
                <a:solidFill>
                  <a:srgbClr val="ffffff"/>
                </a:solidFill>
                <a:latin typeface="Century Gothic"/>
              </a:rPr>
              <a:t>enojarse con – cansarse – asustars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Mi hermano ______________ de los lugares muy altos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Rectangle 3" descr=""/>
          <p:cNvPicPr/>
          <p:nvPr/>
        </p:nvPicPr>
        <p:blipFill>
          <a:blip r:embed="rId2"/>
          <a:stretch/>
        </p:blipFill>
        <p:spPr>
          <a:xfrm>
            <a:off x="3962520" y="3956040"/>
            <a:ext cx="4498920" cy="123840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Title 1" descr=""/>
          <p:cNvPicPr/>
          <p:nvPr/>
        </p:nvPicPr>
        <p:blipFill>
          <a:blip r:embed="rId1"/>
          <a:stretch/>
        </p:blipFill>
        <p:spPr>
          <a:xfrm>
            <a:off x="457200" y="171360"/>
            <a:ext cx="8229600" cy="1657440"/>
          </a:xfrm>
          <a:prstGeom prst="rect">
            <a:avLst/>
          </a:prstGeom>
          <a:ln w="0">
            <a:noFill/>
          </a:ln>
        </p:spPr>
      </p:pic>
      <p:sp>
        <p:nvSpPr>
          <p:cNvPr id="362" name="Content Placeholder 2"/>
          <p:cNvSpPr/>
          <p:nvPr/>
        </p:nvSpPr>
        <p:spPr>
          <a:xfrm>
            <a:off x="457200" y="198108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entury Gothic"/>
                <a:ea typeface="Arial"/>
              </a:rPr>
              <a:t>VERB CHOICES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enojarse con – cansarse – asustars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  <a:ea typeface="Arial"/>
              </a:rPr>
              <a:t>Nosotros __________________ con nuestros padres cuando tenemos quehaceres. 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3" name="Rectangle 5" descr=""/>
          <p:cNvPicPr/>
          <p:nvPr/>
        </p:nvPicPr>
        <p:blipFill>
          <a:blip r:embed="rId2"/>
          <a:stretch/>
        </p:blipFill>
        <p:spPr>
          <a:xfrm>
            <a:off x="3114720" y="3193920"/>
            <a:ext cx="5413320" cy="115272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4" descr="C:\Users\Owner\AppData\Local\Microsoft\Windows\Temporary Internet Files\Content.IE5\465JHOFG\MM900236492[1].gif"/>
          <p:cNvPicPr/>
          <p:nvPr/>
        </p:nvPicPr>
        <p:blipFill>
          <a:blip r:embed="rId3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ALTAR LA CUERD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9" dur="20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0" y="493560"/>
            <a:ext cx="9144000" cy="22132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762120" y="3123720"/>
            <a:ext cx="76197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Yo jugaba con la muñeca mía mucho. 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Title 1" descr=""/>
          <p:cNvPicPr/>
          <p:nvPr/>
        </p:nvPicPr>
        <p:blipFill>
          <a:blip r:embed="rId1"/>
          <a:stretch/>
        </p:blipFill>
        <p:spPr>
          <a:xfrm>
            <a:off x="0" y="347760"/>
            <a:ext cx="8686800" cy="21510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 txBox="1"/>
          <p:nvPr/>
        </p:nvSpPr>
        <p:spPr>
          <a:xfrm>
            <a:off x="38088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FTER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800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A friend of mine was very sociable!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6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La marionet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La muñeca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Century Gothic"/>
              </a:rPr>
              <a:t>El muñeco de peluch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79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828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762120" y="1981080"/>
            <a:ext cx="5943600" cy="386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Century Gothic"/>
              </a:rPr>
              <a:t>Un gato suyo dormía fuera de la casa. </a:t>
            </a:r>
            <a:endParaRPr b="0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2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9" dur="2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-2286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bisabuel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cuñad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los(las) gemelos(as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pariente 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  <a:p>
            <a:pPr marL="416160" indent="-355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400" spc="-1" strike="noStrike">
                <a:solidFill>
                  <a:srgbClr val="ffffff"/>
                </a:solidFill>
                <a:latin typeface="Century Gothic"/>
              </a:rPr>
              <a:t>el(la) sobrino(a)</a:t>
            </a:r>
            <a:endParaRPr b="0" lang="en-US" sz="5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5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1" dur="5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5" name=""/>
          <p:cNvGraphicFramePr/>
          <p:nvPr/>
        </p:nvGraphicFramePr>
        <p:xfrm>
          <a:off x="1371600" y="787320"/>
          <a:ext cx="6629400" cy="5410440"/>
        </p:xfrm>
        <a:graphic>
          <a:graphicData uri="http://schemas.openxmlformats.org/drawingml/2006/table">
            <a:tbl>
              <a:tblPr/>
              <a:tblGrid>
                <a:gridCol w="1325520"/>
                <a:gridCol w="1325520"/>
                <a:gridCol w="1327320"/>
                <a:gridCol w="1325520"/>
                <a:gridCol w="1325520"/>
              </a:tblGrid>
              <a:tr h="104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" action="ppaction://hlinksldjump"/>
                        </a:rPr>
                        <a:t>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2" action="ppaction://hlinksldjump"/>
                        </a:rPr>
                        <a:t>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3" action="ppaction://hlinksldjump"/>
                        </a:rPr>
                        <a:t>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4" action="ppaction://hlinksldjump"/>
                        </a:rPr>
                        <a:t>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5" action="ppaction://hlinksldjump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e8637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6" action="ppaction://hlinksldjump"/>
                        </a:rPr>
                        <a:t>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7" action="ppaction://hlinksldjump"/>
                        </a:rPr>
                        <a:t>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8" action="ppaction://hlinksldjump"/>
                        </a:rPr>
                        <a:t>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9" action="ppaction://hlinksldjump"/>
                        </a:rPr>
                        <a:t>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0" action="ppaction://hlinksldjump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1" action="ppaction://hlinksldjump"/>
                        </a:rPr>
                        <a:t>1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2" action="ppaction://hlinksldjump"/>
                        </a:rPr>
                        <a:t>1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3" action="ppaction://hlinksldjump"/>
                        </a:rPr>
                        <a:t>1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4" action="ppaction://hlinksldjump"/>
                        </a:rPr>
                        <a:t>1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5" action="ppaction://hlinksldjump"/>
                        </a:rPr>
                        <a:t>1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 u="sng">
                          <a:solidFill>
                            <a:srgbClr val="d2611c"/>
                          </a:solidFill>
                          <a:uFillTx/>
                          <a:latin typeface="Century Gothic"/>
                          <a:hlinkClick r:id="rId16" action="ppaction://hlinksldjump"/>
                        </a:rPr>
                        <a:t>16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7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8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19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ede8"/>
                    </a:solidFill>
                  </a:tcPr>
                </a:tc>
              </a:tr>
              <a:tr h="109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e8637"/>
                      </a:solidFill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2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3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4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5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e8637"/>
                      </a:solidFill>
                    </a:lnR>
                    <a:lnT w="5760">
                      <a:solidFill>
                        <a:srgbClr val="fe8637"/>
                      </a:solidFill>
                    </a:lnT>
                    <a:lnB w="5760">
                      <a:solidFill>
                        <a:srgbClr val="fe8637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21528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2895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ntirse – to feel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ntarse – to sit dow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me siento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SER, IR, VER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8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EL ANIMAL 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DE PELUCHE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1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6765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7200" y="21337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SE SONREÍAN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4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me reía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nos reíamo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te reías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os reías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 reía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s-ES_tradnl" sz="6000" spc="-1" strike="noStrike">
                <a:solidFill>
                  <a:srgbClr val="ffffff"/>
                </a:solidFill>
                <a:latin typeface="Century Gothic"/>
              </a:rPr>
              <a:t>se reían</a:t>
            </a: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17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71288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 txBox="1"/>
          <p:nvPr/>
        </p:nvSpPr>
        <p:spPr>
          <a:xfrm>
            <a:off x="457200" y="25146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200" spc="-1" strike="noStrike">
                <a:solidFill>
                  <a:srgbClr val="ffffff"/>
                </a:solidFill>
                <a:latin typeface="Century Gothic"/>
              </a:rPr>
              <a:t>ME ENOJABA</a:t>
            </a:r>
            <a:endParaRPr b="0" lang="en-US" sz="7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0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457200" y="133200"/>
            <a:ext cx="8229600" cy="16527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2362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800" spc="-1" strike="noStrike">
                <a:solidFill>
                  <a:srgbClr val="ffffff"/>
                </a:solidFill>
                <a:latin typeface="Century Gothic"/>
              </a:rPr>
              <a:t>íbamos</a:t>
            </a:r>
            <a:endParaRPr b="0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23" name="Picture 4" descr="C:\Users\Owner\AppData\Local\Microsoft\Windows\Temporary Internet Files\Content.IE5\465JHOFG\MM900236492[1].gif"/>
          <p:cNvPicPr/>
          <p:nvPr/>
        </p:nvPicPr>
        <p:blipFill>
          <a:blip r:embed="rId2"/>
          <a:stretch/>
        </p:blipFill>
        <p:spPr>
          <a:xfrm>
            <a:off x="7315200" y="4714920"/>
            <a:ext cx="182880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8T16:52:39Z</dcterms:created>
  <dc:creator>Heather Heffernen</dc:creator>
  <dc:description/>
  <dc:language>en-US</dc:language>
  <cp:lastModifiedBy>Prine, Stephanie</cp:lastModifiedBy>
  <dcterms:modified xsi:type="dcterms:W3CDTF">2016-02-10T17:01:21Z</dcterms:modified>
  <cp:revision>39</cp:revision>
  <dc:subject/>
  <dc:title>BLUFF</dc:title>
</cp:coreProperties>
</file>